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105-A84C-479B-A244-AB75EE11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90F-3EBD-4345-AFD8-C5C44F0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559-E231-4C40-BFDC-A9BFF54C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AB5-C457-4E6F-B483-B6F00256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927-3CA9-4595-9357-4385F469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64E-7F9B-4733-AEC2-10891ED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629-7779-4AB3-AD07-1D2ABF4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2F2A-11E9-474E-95FE-1F3AD05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2C51-1AC6-4338-B829-9389934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0566-324A-46AD-89BD-427867E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2C3-ABC5-4B26-BEB9-2AC4743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928-BB8B-4772-A356-E31C4CF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BBCA-2289-46C1-834B-7CBE976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EB48-2B17-4B39-9151-7AB8DDE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661-272B-4B81-A436-E2946C61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C8C9-F50D-4E9C-847F-E7D25508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952-3D0D-4905-B9D2-72F66D1F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19C-B166-43A8-9C3B-EA2DC6B4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E08-8835-4D8C-B4B8-0C20CC0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D63-CA4B-4D33-868A-95FC287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8F9-4518-4E6D-9D6B-5DDC8729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89C-3972-4B32-836F-62EF967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644-84A8-47CA-9A46-154F3C4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E13-17C1-465E-BFB4-B18BF61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E0A4-47B9-4CCE-9F14-654413940E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5C2-172F-4DF3-9D40-BFE93A4E80ED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3"/>
          <p:cNvSpPr/>
          <p:nvPr/>
        </p:nvSpPr>
        <p:spPr>
          <a:xfrm>
            <a:off x="1035000" y="1357200"/>
            <a:ext cx="70783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Česká Roadmap výzkumný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infrastrukt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- část Informatika (e-Infrastruktu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1857240" y="3643200"/>
            <a:ext cx="51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g. Jan Gruntorád, C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členové pracovní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6"/>
          <p:cNvSpPr/>
          <p:nvPr/>
        </p:nvSpPr>
        <p:spPr>
          <a:xfrm>
            <a:off x="210600" y="628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ha, 3.9.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ovéPole 1"/>
          <p:cNvSpPr/>
          <p:nvPr/>
        </p:nvSpPr>
        <p:spPr>
          <a:xfrm>
            <a:off x="285840" y="1785960"/>
            <a:ext cx="88581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ložná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středí umožňující ulože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ého množství generovaných da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utné pro jejich zpracová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n-lin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kapacity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louhodobá úložiště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rchivace)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timalizac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stupu k uloženým da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práva dat a kurátorstv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promazávání starých nepotřebných d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rizontáln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bezpečnostní problemati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A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ředí pro spoluprác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integrace s výpočetními a úložnými prostředími, videok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dartiz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uživatelských rozhraní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rmátů da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nitoring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785880" y="9288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truktura komplexní národní e‑infrastruktury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délník 1"/>
          <p:cNvSpPr/>
          <p:nvPr/>
        </p:nvSpPr>
        <p:spPr>
          <a:xfrm>
            <a:off x="214200" y="1500120"/>
            <a:ext cx="8929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Projekty navržené k zařazení do Road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lká infrastruktura CE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T for Innovations (IT4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entre for Education, Research and Innovations for ICT (CERI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cture 1"/>
          <p:cNvPicPr/>
          <p:nvPr/>
        </p:nvPicPr>
        <p:blipFill>
          <a:blip r:embed="rId1"/>
          <a:stretch/>
        </p:blipFill>
        <p:spPr>
          <a:xfrm>
            <a:off x="714240" y="1069920"/>
            <a:ext cx="77155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ovéPole 1"/>
          <p:cNvSpPr/>
          <p:nvPr/>
        </p:nvSpPr>
        <p:spPr>
          <a:xfrm>
            <a:off x="142920" y="642960"/>
            <a:ext cx="900108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elká infrastruktura CES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no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íle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íťové infrastruktur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ětší propustnost stávajících linek, redundance, posílení uzlů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udová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ových optických tra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 uživatelům s vysokými nároky na přenosové pá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adstavbové služb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 vysokou přidanou hodnotou (AAI, prostředí pro spolupráci, bezpečnost, inteligentní monitoring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oření jednot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gridové infrastruktu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á bude integrova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početní a úložné zdroj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ýzkumných a akademických organizací v Č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řízení výkonných a vysoce dostupný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atových úložišť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 výzkumnou a akademickou komun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udování komplexní národní e‑infrastruktury pro vědu a výzkum s excelentními parametry, kter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jso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ěžně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dostupné na tr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ově vznikajíc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ědeckých infrastru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kytování špičkových komunikačních služeb (IP konektivita, end‑to‑end okruhy, …) a souvisejících nadstavbových služeb (AAI, videokonference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ovéPole 1"/>
          <p:cNvSpPr/>
          <p:nvPr/>
        </p:nvSpPr>
        <p:spPr>
          <a:xfrm>
            <a:off x="357120" y="107172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 (pokračování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ordin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árodn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ridových aktiv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kytová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žeb datových úložiš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71680" y="2857680"/>
            <a:ext cx="807696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SNET je dlouhodobě integrován do panevropských síťových infrastruktur (GNx) a gridových infrastruktur (EGE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kt IT4Inno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2855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ílem projektu je vytvořit na základně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ysoce výkonné výpočetní infrastruktu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a úrovni TOP50 nejvýkonnějších superpočítačů, široké portfolio následujících služeb s vysoce přidanou hodnoto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zkum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voj nových meto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oftwarové podpor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elních algoritm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ávrh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e výpočetně náročných úlo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disciplinárního charakter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pora využití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kytování výpočetních kapac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to pojaté centrum rovněž vymezuj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kruh cílových skup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pro které je urče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zkumná obec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kademické sfé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rezentovaná univerzitami a pracovišti akademie věd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5%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ovaného výkonu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kty z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likační sfé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četně státní správy, samosprávy a jejich institucí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lavní aplikační oblast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ované výzkumným záměrem centra jsou následující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voj informační společnost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stou vývoje komplexních systémů pro modelování, simulaci a řízení kritických situací (povodně, znečištění, dopravní problémy, exploze nebezpečných látek apo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voj metod řešení náročných aplikac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 oblasti výpočetní matematiky a mechaniky (strojní a automobilový průmysl, dynamika tekutin, geomechanika, stavební inženýrství), výpočetní fyziky a chemie (elektromagnetika, magnetooptika, akustika, molekulární dynamika, nanotechnologie, návrh léčiv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pora rozvoj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bedded systémů a jejich network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výkonnými výpočetními systém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oretický výzkum v oblasti informatik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aměřený na problematiku vývoje a využití na výpočet náročných algoritmů (vyhledávání informace a dataming, problematika verifikace, bezpečnost, genetické a evoluční algoritmy apod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stupy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85716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sledky výzkumu a vývoje považované výzkumnou komunitou za excelentní, produkované v dlouhodobém horizontu v objemu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povídajícím parametrům evropských center excel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kty výzkumného týmu IT4I s jinými výzkumnými organizacemi, resp. výzkumné projekty jiných výzkumných organizací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 předmětné oblasti výzkumu, zejména pak v oblasti řešení výpočetně náročných úloh prostřednictvím infrastruktury superpočítačového centra projektu IT4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kytnutí komplexně orientovaných služeb včetně vývoje softwaru pro daný typ úlo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ajištění podpůrných a konzultačních služeb v oblasti HPC pro zákazníky cent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kytnutí výpočetních kapac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zkumné služby a výsledky poptávané aplikační sfér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řičemž míra úspěchu je měřena objemem finančních prostředků získaných z aplikační sféry: projekt IT4I počítá s významným zdrojem příjmů z aplikační sfér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středí propojující výzkum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uku v oblasti informačních technologií a výpočetní matemati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stou otevření nových studijních programů magisterského a doktorského studia cílených na HP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0040" y="4071960"/>
            <a:ext cx="807732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4I je členem evropského projektu PRACE (Partnership for Advanced Computing in Europe) zaměřeného na poskytování HPC služeb v 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IT  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 Masarykovy univerzity (Fakulta informatiky, Ústav výpočetní techniky) a partnerů – projekt osy 2 programu Va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560" y="1000080"/>
            <a:ext cx="5143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znamné rysy projektu C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namný P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rodní počítačové sítě,  zkušenost s provozováním výkonných výpočetních systémů a návaznost na rozvoj informatiky -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přístupnění výpočetních i úložných kapac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oskytnut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ce kvalifikovaných služeb v I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ávaznost na nově akreditovaný program Služby v 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ovativní pracoviš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ující centralizované služby s distribuovaným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lastní výzkum a vývoj ve správě a zpřístupnění výpočetních a úložných kapacit, vazba na doktorské i magisterské stud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6-32 pracovníků pr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infrastruktu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plikační týmy projek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é ji využívaj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imenzování centra verifikováno partnerskými dohodami -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zbytný minimální rozsah kapacit a služeb CERIT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ýpočetní výkon 6400 jader v SMP a 6000 v HDC  a úložná kapacita 2x8 petabytů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57520" y="1142640"/>
            <a:ext cx="3786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ovativní prostředí podporující konkurenceschopn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ČR v oblasti výzkumu a vývoje; vysoce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valifikovaná odborná kapacita pro efektivní využití a zpřístupně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důležitější, než pouhá instalace technicky dokonalé výpočetní k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ě s IT4I zapojení do PRACE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plementarita i zálohování výpočetních kapac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dvojice ne zcela ekvivalentních uzlů vytvářejíc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infrastrukturu pro superpočítačové výpoč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pravená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polupráce s  etablovanými superpočítačovými cent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 Julichu a Garch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gram 4" descr=""/>
          <p:cNvPicPr/>
          <p:nvPr/>
        </p:nvPicPr>
        <p:blipFill>
          <a:blip r:embed="rId1"/>
          <a:stretch/>
        </p:blipFill>
        <p:spPr>
          <a:xfrm>
            <a:off x="-19080" y="341280"/>
            <a:ext cx="3749760" cy="3676680"/>
          </a:xfrm>
          <a:prstGeom prst="rect">
            <a:avLst/>
          </a:prstGeom>
          <a:ln w="0">
            <a:noFill/>
          </a:ln>
        </p:spPr>
      </p:pic>
      <p:sp>
        <p:nvSpPr>
          <p:cNvPr id="110" name="Content Placeholder 3"/>
          <p:cNvSpPr/>
          <p:nvPr/>
        </p:nvSpPr>
        <p:spPr>
          <a:xfrm>
            <a:off x="3857760" y="1071720"/>
            <a:ext cx="528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ílová skupina uživatel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sad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lepšení podmínek českých vědeckých excelentních skup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ro které je nedostatečnost výpočetních a úložných kapacit e-infrastruktury v jejich vlastních činnostech kritický a zároveň brzd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kurenceschopnost regionů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efektiv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pojení v mezinárodních projektech typu ESF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upráce a poskytování služeb výzkumné a vývojové komunitě, tj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 velkým nově budovaným centrů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ak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zechGlob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gram EU – ICOS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DMAS, UCE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ateriálový a technologický výzkum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EIT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BIOCEV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life sciences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CAM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nkologie) při jejich vlastním zapojení v síti ESF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ojení d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ranného a bezpečnostního výzkum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rámci ESA, EDA, RTO N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kumné týmy a projekty 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niverzitá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v ústave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V ČR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průmyslový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acovištích aplikovaného výzkum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firmách s vysokou úrovní inova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ovéPole 1"/>
          <p:cNvSpPr/>
          <p:nvPr/>
        </p:nvSpPr>
        <p:spPr>
          <a:xfrm>
            <a:off x="214200" y="714240"/>
            <a:ext cx="871560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Návrh dalšího postupu, doporučení 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vzájemn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mentár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společně mají potenciál vytvořit komplexní národní e‑infrastrukturu na špičkové úrov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ká infrastruktura CESNE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krývá zákla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unikační infrastruktu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věnuje se koordinac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idových služeb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jako budoucí provozovatel národní gridové infrastruktury – NGI) a vybudování netriviální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tribuovaných úložných kapac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které budou sloužit celé výzkumné a akademické komunitě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4I - primárně zaměřen na poskytová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ových kapac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pojení do odpovídajících struktur (zejména projekt PRACE),  hlavní část výkonu bude řešena a poskytová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tr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RIT 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azební prvek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 čis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tribuovaným řešením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grid)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tr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ojatý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e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de mít zapojenu významnou část svých výpočetních kapacit v národním gridum, bude disponovat i superpočítačovými technologiemi,  bude poskytovat i nezanedbatelný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ložný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což je dáno i charakterem požadavků přímo napojených ESFRI a dalších projekt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ovéPole 2"/>
          <p:cNvSpPr/>
          <p:nvPr/>
        </p:nvSpPr>
        <p:spPr>
          <a:xfrm>
            <a:off x="500040" y="1285920"/>
            <a:ext cx="835812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ložení pracovní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WOT ana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lužby komplexní e-Infrastruk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rojekty navržené k zařazení do Road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ávrh dalšího postu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ovéPole 1"/>
          <p:cNvSpPr/>
          <p:nvPr/>
        </p:nvSpPr>
        <p:spPr>
          <a:xfrm>
            <a:off x="285840" y="1571760"/>
            <a:ext cx="8643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Návrh dalšího postupu, doporučení 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odrobněji rozpracovat plány a potřeby ESFRI projek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 využívání komplexní e-Infratsruk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rozpracovat možnosti organizačního zajištění koordin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kytování komplexních e-Infrastrukturních služ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1"/>
          <p:cNvSpPr/>
          <p:nvPr/>
        </p:nvSpPr>
        <p:spPr>
          <a:xfrm>
            <a:off x="1035720" y="2286000"/>
            <a:ext cx="728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5400" spc="-1" strike="noStrike">
                <a:solidFill>
                  <a:srgbClr val="3333cc"/>
                </a:solidFill>
                <a:latin typeface="Times New Roman"/>
              </a:rPr>
              <a:t>Děkuji Vám za pozorno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1"/>
          <p:cNvSpPr/>
          <p:nvPr/>
        </p:nvSpPr>
        <p:spPr>
          <a:xfrm>
            <a:off x="430920" y="1428840"/>
            <a:ext cx="8096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ložení pracovní skupiny pro přípravu Česk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Roadmap výzkumných infrastrukt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Zdeněk Bittnar, Dr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ČVUT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RNDr.Antonín Kučera, CSc.                  UK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Ivo Vondrák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B-TU v Ostrav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RNDr. Luděk Matyska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g. Jiří Site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ČU v Plz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Miroslav Tůma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mník pracovní skupi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g.Jan Furman                                               CES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ovéPole 1"/>
          <p:cNvSpPr/>
          <p:nvPr/>
        </p:nvSpPr>
        <p:spPr>
          <a:xfrm>
            <a:off x="285840" y="500040"/>
            <a:ext cx="86439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WOT a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prvek (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unikač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část)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‑infrastruktu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v ČR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špičkové světové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íťová a gridová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st dlouhodobě plně integrová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 evropských infrastrukturních projekt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GN3, EGEE 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xní e‑inf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tak jak je chápána ve strategických ESFRI a e-IRG dokumentech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atím v ČR chy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dostatečná výpočetní a úložná kapacita pro výzkumnou komuni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ové zdroje chybí v republice úpl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nalost provozu a správ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tribuovaných a superpočítačových výpočetních systémů i rozsáhlých datových úložišť je v republic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mi nerovnoměrně rozptý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yb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zajiště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zdělá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oblasti „scientific computi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ovéPole 1"/>
          <p:cNvSpPr/>
          <p:nvPr/>
        </p:nvSpPr>
        <p:spPr>
          <a:xfrm>
            <a:off x="142920" y="1428840"/>
            <a:ext cx="9001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říležitost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m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ležito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budovat náro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xní e-infrastruktur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výzkumnou  a akademickou komunit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světové úrov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istují již projekt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realizac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notlivých část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ové 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prave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 vzájemn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uj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mají potenciál pokrýt všechny aspekt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oderní komplexní 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lizací doporučení dojde k souběž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ře špičkových vědeckých tým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nsta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znamných součástí distribuova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-infrastruktury v region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ovéPole 1"/>
          <p:cNvSpPr/>
          <p:nvPr/>
        </p:nvSpPr>
        <p:spPr>
          <a:xfrm>
            <a:off x="142920" y="1357200"/>
            <a:ext cx="90010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říležitost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budováním kvalitní e‑infrastruktury lze výrazně přispět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e stabilizaci výzkumných pracovník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e všech vědeckých oborech a vytvořit podmínky pro dalš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ersonální posilování české vě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případě distribuovaných výpočetních kapacit zůstane zachována značná mír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uton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většina prostředků bude ve vlastnictví a správě jednotlivých organizac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por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lupráce tým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národním a zejmé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zinárodním měřít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ožní řešit aktuál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ké výzkumné problém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ky snadnému zapojení do rozsáhlé mezinárodní spolupráce (ESFRI projekty, EIROForum – CERN, ESA, EMBO, EBI, … – a dalš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42920" y="1071720"/>
            <a:ext cx="90010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Ohrožení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é finanční prostředk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e-Infrastrukturu v 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cenění potře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český akademický i průmyslový výz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koordinované pořizová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provoz informačních technologií (přenosových, úložných a výpočetních kapacit) bez vazby na koncept národní e‑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idová čás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‑infrastruktury je založena 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početních a případně úložný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pacit jednotlivých subjekt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rojektů VaVpI, ESFRI, vysokých škol a výzkumných ústavů). Pokud tyto subjekty z jakéhokoliv důvod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c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é potřeby a nepořídí odpovídající kapacity, nebude co propojovat do národního gridu a v konečném 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budou k dispozic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povídající výpočetní a úložné kapacity pro řešení špičkových potř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1"/>
          <p:cNvSpPr/>
          <p:nvPr/>
        </p:nvSpPr>
        <p:spPr>
          <a:xfrm>
            <a:off x="142920" y="1500120"/>
            <a:ext cx="9001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Ohrožení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držitelnost vybudované e‑infrastruktury z důvod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ých finančních prostředků na pro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tráta akumulovaného know-how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ybudovaného mezinárodního postav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é podpory národní složk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zinárodních e-Infrastruktur (GN3, EGI, PR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ovéPole 1"/>
          <p:cNvSpPr/>
          <p:nvPr/>
        </p:nvSpPr>
        <p:spPr>
          <a:xfrm>
            <a:off x="285840" y="1285920"/>
            <a:ext cx="885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íťová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e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yzická infrastruktur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alizovaná sofistikovaný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tickým přenosovým systéme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a technologie pr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nos dat protokole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ransportní služb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 špičkovými parametry (např. virtuální privátní datové okruhy, vícebodová distribuce dat at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pojení do sí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do evropské sí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É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početní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perpočítačová centr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centra poskytujíc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početní kapacit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 subjek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 propojení výpočetních kapaci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závislých menších cente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gridové prostředí tvoří spolu se superpočítačovými centry základní prvky výpočetní infrastruktury v České republ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učástí může být 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ordinace nákup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zpřístupně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byt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ýpočetní části e‑infrastruktury s podobným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ystémy v zahranič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 důvodu zajištění mezinárodní spolupráce vědeckých týmů  (projekt PRACE  a projekt EG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bdélník 2"/>
          <p:cNvSpPr/>
          <p:nvPr/>
        </p:nvSpPr>
        <p:spPr>
          <a:xfrm>
            <a:off x="785880" y="5000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truktura komplexní národní e‑infrastruktur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8:04:40Z</dcterms:created>
  <dc:creator>zapletalova</dc:creator>
  <dc:description/>
  <dc:language>en-US</dc:language>
  <cp:lastModifiedBy>witzanyovan</cp:lastModifiedBy>
  <dcterms:modified xsi:type="dcterms:W3CDTF">2009-09-25T13:55:19Z</dcterms:modified>
  <cp:revision>604</cp:revision>
  <dc:subject/>
  <dc:title>Prezentace aplikace PowerPoint</dc:title>
</cp:coreProperties>
</file>